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DDD-B501-4504-94F2-039B0411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4F1-AA7F-4490-B096-81B9351A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A1E-60D3-4AE9-9EE3-C826E865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2CD-1CE5-4963-A9CF-07B8C94F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635-2387-46E1-B7AB-C1C372DB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6CD-244C-416F-A14D-1E0FB16C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831-6F8F-40A7-9351-1F965CB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FBC-101A-4420-A254-AD6EA39A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D79-DEB6-4FFC-A621-BE67FECF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1BC-19E7-4F30-8A4D-D5A05106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F8D-49FC-4DF6-86B9-6C72A5AD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5B1-4CC1-4754-BC62-F1CD3EAD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4C6-A472-4544-A902-B29F3232C3D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Q07DHlSoKY&amp;feature=related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earning2010.com/Videos/jonathankopp.htm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wretch.cc/blog/pgmejo3/13821723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learning.npm.gov.tw/index.ht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01210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製作與應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學設計與多媒體應用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情境模擬互動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leader http://www.youtube.com/watch?v=ZMlddydz2QE&amp;feature=re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Q07DHlSoKY&amp;feature=relat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Virtual leader meeting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舉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消除頭痛之自我按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故宮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灣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醫）學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交大開放課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ocw.nctu.edu.tw/index.php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有課程認證考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其他推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9917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經典教材：中國書法圖書文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阿哥的書法探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原來書法這樣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五種字體變變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阿哥看書法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透視書法家的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同遊筆墨天地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阿哥的異想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圖書大變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越印越美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阿哥他爹的治國秘密武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朕有旨意要發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君臣的聯絡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737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5040" y="1600200"/>
            <a:ext cx="73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從蘇軾「赤壁賦」的書法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點畫、結字、運筆、行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測驗：找出不合蘇體的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以文徵明：四體千字文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王羲之：快雪時晴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遊戲：九宮格移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五阿哥看書法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透視書法家的心：由左傳介之推故事，到寒食節，到蘇軾的寒食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遊筆墨天地間：黃庭堅「花氣襲人」帖、懷素自敘帖，書法的創新應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2720" y="1054080"/>
            <a:ext cx="8239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大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教材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教材舉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教材開發與編輯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教材的應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學習品質認證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32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347760"/>
            <a:ext cx="727092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705636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98508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769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54338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30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3752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99308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種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簡易串流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模擬步驟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網頁互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情境模擬互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電子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3916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49320" y="1600200"/>
            <a:ext cx="724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35660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87280" y="57340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缺點：完全水平直線式對應，缺乏趣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099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0769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41480" y="1600200"/>
            <a:ext cx="705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3080" y="1600200"/>
            <a:ext cx="7197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95160" y="1600200"/>
            <a:ext cx="775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Youtube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國畫—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tube.com/watch?v=dzwH6nQ22DI&amp;feature=recentl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兩種類型的教材都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背景知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做中學：操作示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以在家自學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師揮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同學切磋、指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觀摩、欣賞、偷（原來可以這樣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名家書法展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sider_guide_to_becoming_a_rapid_E-learning_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材兩種型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formation-based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-inform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erformance-based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t is hard to be self-complete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t need f2f , tutor and peer, eg. Soft skill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t needs practice and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簡易串流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9560" y="1415880"/>
            <a:ext cx="8039160" cy="471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0072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台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大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舉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消除頭痛之自我按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故宮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台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醫）學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交大開放課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ocw.nctu.edu.tw/index.php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有課程認證考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台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第七屆創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盃數位內容競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生，就對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1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樂活台北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2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其他推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從具體到抽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從簡單到複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從動作表徵到圖像表徵、從圖像表徵到符號表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重複、重複、重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學習網站與營利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奧鵬文化教育產業集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ww.tcl-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電大在線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open.edu.cn/Pages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奧鵬遠程教育中心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open.com.cn/open/index.h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一起學習網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iopen.com.c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298440"/>
            <a:ext cx="87487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24000" y="1671480"/>
            <a:ext cx="6696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作業：學習網站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選擇一組網站做功能與特色比較，但每組不能超過兩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台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港都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等公務員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國家文官培訓所文官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文建會網路學院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職業訓練數位學習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主計處公務員資訊學習網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小企業網路大學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k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數位學堂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華電信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報告格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針對每個網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主要功能和服務對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網站經營模式、活動與創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你最欣賞的特色功能或課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最適合你的學習資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以加強之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兩個網站的比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那個對你比較有幫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國外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asie Center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作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050240" cy="5288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6000" y="6237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earning2010.com/Videos/jonathankopp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開發與編輯工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103400"/>
          <a:ext cx="8675640" cy="5754600"/>
        </p:xfrm>
        <a:graphic>
          <a:graphicData uri="http://schemas.openxmlformats.org/drawingml/2006/table">
            <a:tbl>
              <a:tblPr/>
              <a:tblGrid>
                <a:gridCol w="2666880"/>
                <a:gridCol w="6008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像剪輯軟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威力導演、繪聲繪影、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 maker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ere Media stu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串流簡報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producer, Cyberlink streamauthor, Powercam, Camtasia, Articulate Pres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模擬步驟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 Captiv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互動多媒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 Fla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網頁互動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page, Dreamweaver, Articulate Engage, Wizbuilder, wikispaces, google si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線上測驗製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ulate Quizmaker, Course builder, Hot Potatoes, questio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Articulate Presenter0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快速將您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轉換回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線上課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Articulate engage0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可協助您輕鬆製作出炫麗的互動式線上課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Articulate Quizmaker0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學過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能快速簡易地建立是非、選擇、填空、配對及排序類型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測驗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的應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司要求之自學課程，完成後可有學習紀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配合個人個人工作或生活需求之自學課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有導師帶領的線上學習，提供同修討論機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室學習之先修或補充教材，例如故宮課程，知識與實際練習相輔相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混成學習之線上課程，須注意整合效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58920" y="907920"/>
            <a:ext cx="2881440" cy="1511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短內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3933720"/>
            <a:ext cx="3097080" cy="1728720"/>
          </a:xfrm>
          <a:custGeom>
            <a:avLst/>
            <a:gdLst>
              <a:gd name="textAreaLeft" fmla="*/ 0 w 3097080"/>
              <a:gd name="textAreaRight" fmla="*/ 3097440 w 3097080"/>
              <a:gd name="textAreaTop" fmla="*/ 223920 h 1728720"/>
              <a:gd name="textAreaBottom" fmla="*/ 150480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ee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優質內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3068640"/>
            <a:ext cx="3528720" cy="2592360"/>
          </a:xfrm>
          <a:prstGeom prst="irregularSeal1">
            <a:avLst/>
          </a:prstGeom>
          <a:solidFill>
            <a:srgbClr val="fade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1773360"/>
            <a:ext cx="3384720" cy="15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海鮮內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4005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群內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又有教育性，也有娛樂性、趣味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層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 gam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與內容互動產生的快意、趣味、成就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與同伴合作的默契與團隊運作、破解障礙、達成目標之成功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Out of gam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密招與心得分享—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wiki  blog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544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2723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59640" cy="5972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11280" y="3141720"/>
            <a:ext cx="360360" cy="216000"/>
          </a:xfrm>
          <a:custGeom>
            <a:avLst/>
            <a:gdLst>
              <a:gd name="textAreaLeft" fmla="*/ 63000 w 360360"/>
              <a:gd name="textAreaRight" fmla="*/ 261360 w 360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1076600">
            <a:off x="2410560" y="2707920"/>
            <a:ext cx="360360" cy="216000"/>
          </a:xfrm>
          <a:custGeom>
            <a:avLst/>
            <a:gdLst>
              <a:gd name="textAreaLeft" fmla="*/ 63000 w 360360"/>
              <a:gd name="textAreaRight" fmla="*/ 261360 w 360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711360"/>
            <a:ext cx="7920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DevLearn 2010 Conference W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elearnmag.org/subpage.cfm?section=reviews&amp;article=20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820000" cy="664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李可染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用最大的功力打進去，用最大的勇氣打出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貴者膽，所要者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強調基本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341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80920" y="1600200"/>
            <a:ext cx="738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5504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李可染书法作品欣赏"/>
          <p:cNvPicPr/>
          <p:nvPr/>
        </p:nvPicPr>
        <p:blipFill>
          <a:blip r:embed="rId1"/>
          <a:stretch/>
        </p:blipFill>
        <p:spPr>
          <a:xfrm>
            <a:off x="2195640" y="333360"/>
            <a:ext cx="4330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學習品質認證中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數位學習品質認證中心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ttp://www.elq.org.tw/index.asp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教材品質規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elq.org.tw/elcc_apply/digi_material01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學習服務認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elq.org.tw/elsc_apply/digi_service01.aspx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審核分等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審核要收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五大面向檢核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五大面向檢核圖如下方說明。"/>
          <p:cNvPicPr/>
          <p:nvPr/>
        </p:nvPicPr>
        <p:blipFill>
          <a:blip r:embed="rId1"/>
          <a:stretch/>
        </p:blipFill>
        <p:spPr>
          <a:xfrm>
            <a:off x="1692360" y="1474920"/>
            <a:ext cx="52560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五種面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規範一 ：教材內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數位教材應提供正確的學習內容，並適切的組織與清楚合適的表達及呈現，使學習者能習得預期的教材內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規範二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教學設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數位教材應提供學習者順暢進行學習活動的相關導引機制，讓學習者能有效掌控個人的學習活動進展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規範三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導引與追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數位教材在教學設計的內涵上應達一致性，並提供學習者明確的學習目標、清楚的學習內涵呈現、適當運用學習策略以促進學習理解、良好的學習互動、及適切的評量與回饋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規範四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教學媒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有效的教學媒體運用、美觀適切的學習介面設計、及教學媒體設計與製作等將能促進對學習者的學習理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規範五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創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評審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檢核重點若以綠色標示為必備檢核重點，若以灰色標示為選擇性檢核重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必備檢核重點為數位教材必須滿足之檢核重點，未能滿足八項必備檢核重點之數位教材將無法通過認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必備檢核重點之通過條件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該檢核重點下若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項檢核要求，則需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項被評定為『 符合』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若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項檢核要求，則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項皆須被評定為『符合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47640" y="549360"/>
            <a:ext cx="5977080" cy="4541400"/>
            <a:chOff x="1547640" y="549360"/>
            <a:chExt cx="5977080" cy="454140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47640" y="1264320"/>
              <a:ext cx="5977080" cy="38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741560" y="549360"/>
              <a:ext cx="2135880" cy="1154160"/>
            </a:xfrm>
            <a:prstGeom prst="wedgeRoundRectCallout">
              <a:avLst>
                <a:gd name="adj1" fmla="val -77194"/>
                <a:gd name="adj2" fmla="val 54277"/>
                <a:gd name="adj3" fmla="val 16667"/>
              </a:avLst>
            </a:prstGeom>
            <a:solidFill>
              <a:srgbClr val="ffff99">
                <a:alpha val="6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將活動記錄上傳至職訓學習網，讓學員可線上再作學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050920" y="5734080"/>
            <a:ext cx="50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麵包西點實用班線上同學會活動紀錄於職訓數位學習網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食品烘焙職類混成班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認證標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分為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AA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個等級，詳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elq.org.tw/elcc_apply/digi_material05_1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學習服務八大面向檢核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八大面向檢核圖如下方說明。"/>
          <p:cNvPicPr/>
          <p:nvPr/>
        </p:nvPicPr>
        <p:blipFill>
          <a:blip r:embed="rId1"/>
          <a:stretch/>
        </p:blipFill>
        <p:spPr>
          <a:xfrm>
            <a:off x="2484360" y="184464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人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一  學習者支援：須能即時提供課程訊息、線上支援與協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二  教學者支援：須能提供線上教材製作與課程實施的協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課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三  學程發展：須考慮學程目標、結構與數位化之質與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四  課程設計：須對教學目標、教材內容、活動設計與評量有系統化的分析、設計與檢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五  教學歷程：須對學生的學習歷程與表現有適切的紀錄與回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系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六  機構性支援：須具備健全的發展計畫、人力資源與管理機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七  科技：須提供完善的使用者端、伺服器端與網路的建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八  評鑑：對人員、課程與系統須有完整的評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認證層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單元認證：申請公司應符合數位學習服務品質以認證之規範一、二、七、八等規範，即可提出數位學習服務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單元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認證之申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課程認證：申請公司應符合數位學習服務品質認證之一、二、四、五、七、八等規範，即可提出數位學習服務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課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認證之申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服認證：申請公司符合數位學習服務品質之八項規範，即可提出數位學習服務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認證之申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模擬步驟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03280" y="6308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retch.cc/blog/pgmejo3/13821723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網頁互動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95160" y="1600200"/>
            <a:ext cx="775368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42920" y="6381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learning.npm.gov.tw/index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2:57:59Z</dcterms:created>
  <dc:creator>Jeanchow</dc:creator>
  <dc:description/>
  <dc:language>en-US</dc:language>
  <cp:lastModifiedBy>Jeanchow</cp:lastModifiedBy>
  <dcterms:modified xsi:type="dcterms:W3CDTF">2010-12-17T11:55:22Z</dcterms:modified>
  <cp:revision>14</cp:revision>
  <dc:subject/>
  <dc:title>091219企業數位教材製作</dc:title>
</cp:coreProperties>
</file>